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96B5-A8FE-4453-B9D2-D02188472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D830-ECBD-44C2-89E5-A45849FD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68DC-1F97-42FE-B546-A0A468FD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D553-37E3-4F1D-83F0-D5999F48A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2B6B-8398-453E-A31D-8B3D881F5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DF33-9391-4B36-B032-C63756C1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E289-7B02-4CA9-887C-F2452DDF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C250-D99E-4234-8965-2FB6D2B0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94A4-9615-4250-8780-0E1ABAA0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66D7-73F4-4C90-B5FA-5FEB5DC1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972A-9B2C-42F4-ACC7-B7A56E41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E5CC-6634-4CD6-AAD1-E64CA1B2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51F5-C739-4825-9436-7EB3AB18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C1D2-EDF9-4AD8-B631-EC3C04FC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9C21-44EB-4354-AF7B-C62ECC5D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7BF0-5EBE-4174-B2CF-4911E2714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18F2-895F-4781-8709-F270054A1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4782-3BF3-4D9E-A168-5055A39A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A9B8-2144-4744-B6FF-1DF651C1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B0E9-3173-4FB9-9B97-E0AA4548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B8B0-873A-4F23-8744-42782EF7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34EA-3A95-46F6-9C0D-F78B9A81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AEB0-8190-4E83-9248-13BB15AF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C64F-FF8E-46B6-A273-FF218929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B0D2-F63A-458D-A62B-CE074E650F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B83A-8CF2-4EB9-92B2-F3C582C866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31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c0000"/>
                </a:solidFill>
                <a:uFillTx/>
                <a:latin typeface="Monotype Corsiva"/>
              </a:rPr>
              <a:t>10 ROSAS PARA T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1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1845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Monotype Corsiva"/>
              </a:rPr>
              <a:t>Te ofrezco.........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na Para La Sincerida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rosa_Raimond_Nazereau_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 La Ultima Para Una Larga Vi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38080" y="762120"/>
            <a:ext cx="8077320" cy="59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33"/>
                </a:solidFill>
                <a:latin typeface="Times New Roman"/>
              </a:rPr>
              <a:t>Te Quiero Muc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35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 importante de este mensaje 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e no te puedes quedar con Él, reenvíalo a las personas que son muy especiales para 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ff"/>
                </a:solidFill>
                <a:latin typeface="Times New Roman"/>
              </a:rPr>
              <a:t>No es una locura pero es bonito regalar flores por ello.....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33"/>
                </a:solidFill>
                <a:latin typeface="Times New Roman"/>
              </a:rPr>
              <a:t>Me puedes devolver este mensaje a Mí tambié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66"/>
                </a:solidFill>
                <a:latin typeface="Times New Roman"/>
              </a:rPr>
              <a:t>...........Gracias por  aceptarme como so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amor12" descr=""/>
          <p:cNvPicPr/>
          <p:nvPr/>
        </p:nvPicPr>
        <p:blipFill>
          <a:blip r:embed="rId2"/>
          <a:stretch/>
        </p:blipFill>
        <p:spPr>
          <a:xfrm>
            <a:off x="4038480" y="1143000"/>
            <a:ext cx="185112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65880" y="395280"/>
            <a:ext cx="690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e quiero mucho gracias por ser mi ami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97840" y="5756400"/>
            <a:ext cx="588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 mensaje de tu amigo y hermano Wilb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osa_Iskra_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31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22860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Monotype Corsiva"/>
              </a:rPr>
              <a:t>Una Rosa de La Amista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31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28440" y="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rosa_Meinalider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31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45720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Monotype Corsiva"/>
              </a:rPr>
              <a:t>Una Para El Am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83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rosa_Bea_3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onotype Corsiva"/>
              </a:rPr>
              <a:t>Una Para La Salu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28440" y="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rosa_Gold_Bunny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31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33"/>
                </a:solidFill>
                <a:latin typeface="Monotype Corsiva"/>
              </a:rPr>
              <a:t>Una Para La Suer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31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1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28440" y="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rosa_Fritz_Nobis_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31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cc"/>
                </a:solidFill>
                <a:latin typeface="Monotype Corsiva"/>
              </a:rPr>
              <a:t>Una Para Nuevas Amista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28440" y="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rosa_Alpine_Sunset_6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31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99"/>
                </a:solidFill>
                <a:latin typeface="Monotype Corsiva"/>
              </a:rPr>
              <a:t>Una Para La Felicida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rosa_Ingrid_Bergman_3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31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Monotype Corsiva"/>
              </a:rPr>
              <a:t>Una Para La Famil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Una Para La Paz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22:59:02Z</dcterms:created>
  <dc:creator>jhinostroza</dc:creator>
  <dc:description/>
  <dc:language>en-US</dc:language>
  <cp:lastModifiedBy>Wilbert Martinez</cp:lastModifiedBy>
  <dcterms:modified xsi:type="dcterms:W3CDTF">2007-03-27T18:04:38Z</dcterms:modified>
  <cp:revision>15</cp:revision>
  <dc:subject/>
  <dc:title>Presentación de PowerPoint</dc:title>
</cp:coreProperties>
</file>